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0209-01ED-4B7B-A6DA-E78A0D6E0C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3284-D87C-4A91-92A4-8749308A39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E78-86AB-4390-9AB4-A51E1F7B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39EA-F5E9-4B88-969A-D50F2EE2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F55-FFF3-47AE-AADF-8AC52E1E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074-5600-4E1F-AF3C-42E96993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E95B-ACAF-4ABD-BF72-A303E3FB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F773-5CAC-49E0-9E2F-3A12C571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8900-8149-4006-A56D-8DC72C34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9068-9DE0-405E-98D0-788EA717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CEA5-DC6A-42A4-971E-FB7541D1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7A88-FFAE-4BE7-B7D0-D7B0AF79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F0C9-A994-4CC4-BA08-AA123A73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78C-55F6-482A-B2D9-884C7FB7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5357-853C-454C-A128-8C0F61BB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583D-6065-4873-833F-BF7B1452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B7FC-7904-4EC2-8869-956B692E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63C5-8D37-4C0F-9446-63F2295B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914C-CDC4-4788-9967-F6C044EE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D6FC8-AE4C-4B98-8177-F8EBF325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1E4C9-09A4-4B1E-B596-76CCAF75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E74E6-B229-485A-98AA-15E53435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316F3-E9ED-4C0E-AD2F-9E173700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78B52-24CD-4379-9877-0D938BF9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E0C1-E962-49DE-ADC4-606A9B98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1E4F3-80AA-43B5-9C50-C84FE1B7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A5624-E023-4C30-945B-638A4051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E3880-A5C7-412B-9A91-D269011C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453C-37A7-42C5-8BE2-F8AF3D92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873E2-594E-4031-A52B-35996B67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D525-9857-461C-A2DB-C3C00591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D04F3-36FE-4FCA-950A-804048AA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D27F2-8763-4DF5-B420-8429ED5E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1A3BA-DFBD-47A2-8BAA-48E9B3DB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213AE-19E3-4410-9160-AE494801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380-FF37-4301-A45B-3CF544DD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DD530-5C38-4810-93D7-647D3858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D3411-C931-4205-8E9A-1A36E562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553B3-7340-4819-B8A3-885CFA27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54AF8-7B28-4C85-82D1-640254A7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A114A-55FB-44F2-B33F-CC9B47FE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C4992-79CD-4B7C-A746-EAE46415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77841-D77A-41D3-940D-77D812F5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A4BF4-81E7-4403-AC0D-C7EEB675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2780F-05B1-46BC-96EA-F5673E4F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D9A51-EE77-48CF-A8B1-C9EA10EB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FB5-293B-46C3-9CA7-2C3271D8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E30B4-F94D-423B-83AE-473162B8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186D1-F2FB-450B-82F4-46CBF582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E920F-1884-4FD5-AA59-A5C13ABF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4BB2C-D99B-4EC4-AEC0-EA340495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FC724-A964-417D-91F8-657FF5BC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71C49-2AAA-4384-BA58-2536B775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BC684-93ED-49F7-A8C3-EF4BFAA5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AE27A-A9C7-4285-A113-C8911561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A3E9A-5353-4C8A-B0A7-64D6B186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FF473-3F0A-4922-8F23-777BABC2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312-1D0F-4548-ADBE-49C078AA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A1016-C360-4EDA-A6AD-D5F9EB25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D0A-B93A-4B0B-81C5-3B9A5D46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E42-D2C7-4D88-A640-33D72F1B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755-80F1-4D1A-8B92-3758CC2A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19DA-FDEF-4EE9-8140-860FEB949B0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81AF-EEEF-41BB-8634-DCAB0DBD34D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AB7E-6A7D-45EF-BAF3-C342C4B7F39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E363-7718-4F35-85BC-E61D49A2FE8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0DEC-20C4-44CE-ADC4-5670907536C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 1-2\Последовательность выполнения углов. «лесная поляна».jpg"/>
          <p:cNvPicPr/>
          <p:nvPr/>
        </p:nvPicPr>
        <p:blipFill>
          <a:blip r:embed="rId1"/>
          <a:stretch/>
        </p:blipFill>
        <p:spPr>
          <a:xfrm>
            <a:off x="2411280" y="973080"/>
            <a:ext cx="396108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15T09:55:31Z</dcterms:modified>
  <cp:revision>32</cp:revision>
  <dc:subject/>
  <dc:title>ТВОРЧЕСКАЯ ДЕЯТЕЛЬНОСТЬ: ЗНАКОМСТВО С ТЕХНИКОЙ ИЗОНИТЬ</dc:title>
</cp:coreProperties>
</file>